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36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43360" y="943128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6F718F-B241-46DB-ACE8-0339BBAABFEF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082520" y="863280"/>
            <a:ext cx="4616640" cy="34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41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68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71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74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77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80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83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86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89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92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44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47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50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53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56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59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62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65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197-4278-4F77-9159-798CBD82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FDA-5FB3-4507-BB33-145D97B9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8A3-3B87-4402-8986-6CFB70E4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D934-8C7C-4755-BB50-DC4E4BA6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6179-99CD-49C9-B428-995D6189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9BD-A506-4740-AEAD-723EBD84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C3E2-F8BC-4B56-A58F-7321937F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B14-73D8-40E0-A9F8-A85B2FF9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6C1-9D76-433D-8846-B5F81334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3B7-A4BD-44E3-9086-C3A31641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5628-9971-4F5F-8F55-0D17647A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BB4-312B-44B2-BD55-3016BC08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78A9BB-FF79-4161-B3BA-4194ADD348F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371600"/>
            <a:ext cx="807732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PRACTICAL SHIELDING CONCEP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371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SHIELDING WITH DISCONTINU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PRACTICAL SHI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2098800"/>
            <a:ext cx="426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presence of an interrup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dvantage : interruption of the sheath cur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Disadvantag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- a dangerous voltage between sheath and grou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-an aperture through which the field penetra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- current circulation in the pigtail and a flux enhancing the internal condu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724280" y="2381400"/>
          <a:ext cx="3962520" cy="37209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2381400"/>
                    <a:ext cx="396252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1371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f3399"/>
                </a:solidFill>
                <a:latin typeface="Times New Roman"/>
              </a:rPr>
              <a:t>COMPROMISE SOLUTION : GROUNDING USING PIG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PRACTICAL SHI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533520" y="2209680"/>
          <a:ext cx="7773840" cy="39448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209680"/>
                    <a:ext cx="77738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1371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New York"/>
              </a:rPr>
              <a:t>Example</a:t>
            </a:r>
            <a:r>
              <a:rPr b="0" lang="fr-FR" sz="2400" spc="-1" strike="noStrike">
                <a:solidFill>
                  <a:srgbClr val="000000"/>
                </a:solidFill>
                <a:latin typeface="New York"/>
              </a:rPr>
              <a:t> : </a:t>
            </a:r>
            <a:r>
              <a:rPr b="0" lang="fr-FR" sz="2400" spc="-1" strike="noStrike">
                <a:solidFill>
                  <a:srgbClr val="0000ff"/>
                </a:solidFill>
                <a:latin typeface="New York"/>
              </a:rPr>
              <a:t>Consequences of different types of connections between the sheath of a coaxial cable and the metallic enclosures of an equi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PRACTICAL SHI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85800" y="2895480"/>
          <a:ext cx="7848720" cy="2168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2895480"/>
                    <a:ext cx="7848720" cy="21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13716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New York"/>
              </a:rPr>
              <a:t>1 – sheath connected by a pigtail at a single extrem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New York"/>
              </a:rPr>
              <a:t>2 – sheath connected by pigtails at both extrem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New York"/>
              </a:rPr>
              <a:t>3 – sheath connected to the enclosure through BNC conn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PRACTICAL SHI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143000" y="2819520"/>
          <a:ext cx="7162920" cy="3281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819520"/>
                    <a:ext cx="716292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1371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lectric field coupling or capacitive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LOW FREQUENCY SHI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9056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CapCoupl" descr=""/>
          <p:cNvPicPr/>
          <p:nvPr/>
        </p:nvPicPr>
        <p:blipFill>
          <a:blip r:embed="rId5"/>
          <a:stretch/>
        </p:blipFill>
        <p:spPr>
          <a:xfrm>
            <a:off x="3505320" y="2001960"/>
            <a:ext cx="4952880" cy="4060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457200" y="286056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When the disturb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ircuit is closed on a high impedance or is open circu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1371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Partial shielding of the victim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LOW FREQUENCY SHI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9056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810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CapCouplPartShield" descr=""/>
          <p:cNvPicPr/>
          <p:nvPr/>
        </p:nvPicPr>
        <p:blipFill>
          <a:blip r:embed="rId5"/>
          <a:stretch/>
        </p:blipFill>
        <p:spPr>
          <a:xfrm>
            <a:off x="1981080" y="2057400"/>
            <a:ext cx="518184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" y="1371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Total shielding of the victim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LOW FREQUENCY SHI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9056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810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95600" y="8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CapCouplTotalShield" descr=""/>
          <p:cNvPicPr/>
          <p:nvPr/>
        </p:nvPicPr>
        <p:blipFill>
          <a:blip r:embed="rId5"/>
          <a:stretch/>
        </p:blipFill>
        <p:spPr>
          <a:xfrm>
            <a:off x="2133720" y="1820880"/>
            <a:ext cx="485748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1371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gnetic field or inductive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1)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by reducing the coupling loops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 approach the victim circuit to th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LOW FREQUENCY SHI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219320" y="3048120"/>
          <a:ext cx="6850080" cy="296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048120"/>
                    <a:ext cx="6850080" cy="29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371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gnetic field or inductive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2) by twisting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 : Physical explanation of twisting efficiency : the induced currents cancel in neighbouring loo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LOW FREQUENCY SHI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523880" y="2619360"/>
          <a:ext cx="5639040" cy="35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2619360"/>
                    <a:ext cx="563904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371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c0128"/>
                </a:solidFill>
                <a:latin typeface="Times New Roman"/>
              </a:rPr>
              <a:t>PENETRATIONS INTO A SHIELDED C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PRACTICAL SHI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057400"/>
            <a:ext cx="2590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penetrations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y diffusion through the walls 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rough apertures 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- by conduction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 the most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124080" y="2209680"/>
          <a:ext cx="5562720" cy="3745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2209680"/>
                    <a:ext cx="556272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371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FIELD PENETRATION THROUGH APER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PRACTICAL SHI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919160"/>
          <a:ext cx="4230720" cy="3816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1919160"/>
                    <a:ext cx="42307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029200" y="2057400"/>
          <a:ext cx="3622680" cy="38098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2057400"/>
                    <a:ext cx="36226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371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MINIMIZATION OF FIELD PENETRATION THROUGH THE APER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PRACTICAL SHI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120" y="2362320"/>
          <a:ext cx="3055680" cy="38098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362320"/>
                    <a:ext cx="30556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943600" y="2438280"/>
          <a:ext cx="1508040" cy="37339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2438280"/>
                    <a:ext cx="150804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4343400" y="38448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371600"/>
            <a:ext cx="8077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FURTHER REDUCTION OF FIELD PENETRATION THROUGH  APERTUR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THE WAVE GU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PRACTICAL SHI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652920" y="2362320"/>
          <a:ext cx="2262240" cy="3733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2920" y="2362320"/>
                    <a:ext cx="226224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371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HONEYCOM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PRACTICAL SHI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33520" y="2297160"/>
          <a:ext cx="8001000" cy="3440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297160"/>
                    <a:ext cx="800100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371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ONDUCTOR ARRANGEMENT INSIDE A SHIELDED EN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PRACTICAL SHI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057400" y="2133720"/>
          <a:ext cx="6597720" cy="4041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2133720"/>
                    <a:ext cx="659772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7320" y="2327400"/>
            <a:ext cx="246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rrangem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void to pass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n ape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371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ONDUCTOR ARRANGEMENT INSIDE A SHIELDED EN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PRACTICAL SHI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6600" y="2327400"/>
            <a:ext cx="207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rran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 mou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long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nclosure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514600" y="2698920"/>
          <a:ext cx="6172200" cy="294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698920"/>
                    <a:ext cx="61722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13716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IELDING CONTINUITY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shielded enclosures and the shielded cable connecting the enclosures should be designed in such a way that no penetrations for external fields could occ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PRACTICAL SHI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" y="3581280"/>
          <a:ext cx="3886200" cy="1895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581280"/>
                    <a:ext cx="3886200" cy="18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343400" y="3657600"/>
          <a:ext cx="4344840" cy="19573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3657600"/>
                    <a:ext cx="434484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9T15:56:46Z</dcterms:created>
  <dc:creator>Narcís</dc:creator>
  <dc:description/>
  <dc:language>en-US</dc:language>
  <cp:lastModifiedBy>Michel Ianoz</cp:lastModifiedBy>
  <cp:lastPrinted>2000-11-05T16:29:07Z</cp:lastPrinted>
  <dcterms:modified xsi:type="dcterms:W3CDTF">2003-09-04T15:30:59Z</dcterms:modified>
  <cp:revision>389</cp:revision>
  <dc:subject/>
  <dc:title>Presentación para curso de GSM</dc:title>
</cp:coreProperties>
</file>