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embeddings/oleObject3.docx" ContentType="application/vnd.openxmlformats-officedocument.wordprocessingml.document"/>
  <Override PartName="/ppt/embeddings/oleObject4.bin" ContentType="application/vnd.openxmlformats-officedocument.oleObject"/>
  <Override PartName="/ppt/embeddings/oleObject3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781800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824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9360"/>
            <a:ext cx="2938320" cy="4636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3360" y="9360"/>
            <a:ext cx="2938320" cy="4636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i="1" lang="es-ES_trad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0" y="9431280"/>
            <a:ext cx="2938320" cy="4636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i="1" lang="es-ES_trad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3843360" y="9431280"/>
            <a:ext cx="2938320" cy="4636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i="1" lang="es-ES_trad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F7F1C770-21D6-407C-8E89-6E5D2F14A2FE}" type="slidenum"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904680" y="4719600"/>
            <a:ext cx="4971960" cy="4478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Img"/>
          </p:nvPr>
        </p:nvSpPr>
        <p:spPr>
          <a:xfrm>
            <a:off x="1082520" y="863280"/>
            <a:ext cx="4616640" cy="3462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body"/>
          </p:nvPr>
        </p:nvSpPr>
        <p:spPr>
          <a:xfrm>
            <a:off x="904680" y="4719600"/>
            <a:ext cx="4971960" cy="4478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ldImg"/>
          </p:nvPr>
        </p:nvSpPr>
        <p:spPr>
          <a:xfrm>
            <a:off x="1082520" y="863640"/>
            <a:ext cx="4616640" cy="3462120"/>
          </a:xfrm>
          <a:prstGeom prst="rect">
            <a:avLst/>
          </a:prstGeom>
          <a:ln w="0">
            <a:noFill/>
          </a:ln>
        </p:spPr>
      </p:sp>
      <p:sp>
        <p:nvSpPr>
          <p:cNvPr id="259" name=""/>
          <p:cNvSpPr/>
          <p:nvPr/>
        </p:nvSpPr>
        <p:spPr>
          <a:xfrm>
            <a:off x="1262880" y="4979880"/>
            <a:ext cx="104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From ref. [10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body"/>
          </p:nvPr>
        </p:nvSpPr>
        <p:spPr>
          <a:xfrm>
            <a:off x="904680" y="4719600"/>
            <a:ext cx="4971960" cy="4478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ldImg"/>
          </p:nvPr>
        </p:nvSpPr>
        <p:spPr>
          <a:xfrm>
            <a:off x="1082520" y="863640"/>
            <a:ext cx="4616640" cy="3462120"/>
          </a:xfrm>
          <a:prstGeom prst="rect">
            <a:avLst/>
          </a:prstGeom>
          <a:ln w="0">
            <a:noFill/>
          </a:ln>
        </p:spPr>
      </p:sp>
      <p:sp>
        <p:nvSpPr>
          <p:cNvPr id="262" name=""/>
          <p:cNvSpPr/>
          <p:nvPr/>
        </p:nvSpPr>
        <p:spPr>
          <a:xfrm>
            <a:off x="1262880" y="4979880"/>
            <a:ext cx="104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From ref. [10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body"/>
          </p:nvPr>
        </p:nvSpPr>
        <p:spPr>
          <a:xfrm>
            <a:off x="904680" y="4719600"/>
            <a:ext cx="4971960" cy="4478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ldImg"/>
          </p:nvPr>
        </p:nvSpPr>
        <p:spPr>
          <a:xfrm>
            <a:off x="1082520" y="863640"/>
            <a:ext cx="4616640" cy="3462120"/>
          </a:xfrm>
          <a:prstGeom prst="rect">
            <a:avLst/>
          </a:prstGeom>
          <a:ln w="0">
            <a:noFill/>
          </a:ln>
        </p:spPr>
      </p:sp>
      <p:sp>
        <p:nvSpPr>
          <p:cNvPr id="265" name=""/>
          <p:cNvSpPr/>
          <p:nvPr/>
        </p:nvSpPr>
        <p:spPr>
          <a:xfrm>
            <a:off x="1262880" y="4979880"/>
            <a:ext cx="104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From ref. [10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body"/>
          </p:nvPr>
        </p:nvSpPr>
        <p:spPr>
          <a:xfrm>
            <a:off x="904680" y="4719600"/>
            <a:ext cx="4971960" cy="4478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ldImg"/>
          </p:nvPr>
        </p:nvSpPr>
        <p:spPr>
          <a:xfrm>
            <a:off x="1082520" y="863640"/>
            <a:ext cx="4616640" cy="3462120"/>
          </a:xfrm>
          <a:prstGeom prst="rect">
            <a:avLst/>
          </a:prstGeom>
          <a:ln w="0">
            <a:noFill/>
          </a:ln>
        </p:spPr>
      </p:sp>
      <p:sp>
        <p:nvSpPr>
          <p:cNvPr id="268" name=""/>
          <p:cNvSpPr/>
          <p:nvPr/>
        </p:nvSpPr>
        <p:spPr>
          <a:xfrm>
            <a:off x="1262880" y="4979880"/>
            <a:ext cx="104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From ref. [10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body"/>
          </p:nvPr>
        </p:nvSpPr>
        <p:spPr>
          <a:xfrm>
            <a:off x="904680" y="4719600"/>
            <a:ext cx="4971960" cy="4478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ldImg"/>
          </p:nvPr>
        </p:nvSpPr>
        <p:spPr>
          <a:xfrm>
            <a:off x="1082520" y="863640"/>
            <a:ext cx="4616640" cy="3462120"/>
          </a:xfrm>
          <a:prstGeom prst="rect">
            <a:avLst/>
          </a:prstGeom>
          <a:ln w="0">
            <a:noFill/>
          </a:ln>
        </p:spPr>
      </p:sp>
      <p:sp>
        <p:nvSpPr>
          <p:cNvPr id="271" name=""/>
          <p:cNvSpPr/>
          <p:nvPr/>
        </p:nvSpPr>
        <p:spPr>
          <a:xfrm>
            <a:off x="1262880" y="4979880"/>
            <a:ext cx="104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From ref. [10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body"/>
          </p:nvPr>
        </p:nvSpPr>
        <p:spPr>
          <a:xfrm>
            <a:off x="904680" y="4719600"/>
            <a:ext cx="4971960" cy="4478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ldImg"/>
          </p:nvPr>
        </p:nvSpPr>
        <p:spPr>
          <a:xfrm>
            <a:off x="1082520" y="863640"/>
            <a:ext cx="4616640" cy="3462120"/>
          </a:xfrm>
          <a:prstGeom prst="rect">
            <a:avLst/>
          </a:prstGeom>
          <a:ln w="0">
            <a:noFill/>
          </a:ln>
        </p:spPr>
      </p:sp>
      <p:sp>
        <p:nvSpPr>
          <p:cNvPr id="274" name=""/>
          <p:cNvSpPr/>
          <p:nvPr/>
        </p:nvSpPr>
        <p:spPr>
          <a:xfrm>
            <a:off x="1262880" y="4979880"/>
            <a:ext cx="104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From ref. [10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body"/>
          </p:nvPr>
        </p:nvSpPr>
        <p:spPr>
          <a:xfrm>
            <a:off x="904680" y="4719600"/>
            <a:ext cx="4971960" cy="4478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ldImg"/>
          </p:nvPr>
        </p:nvSpPr>
        <p:spPr>
          <a:xfrm>
            <a:off x="1082520" y="863640"/>
            <a:ext cx="4616640" cy="3462120"/>
          </a:xfrm>
          <a:prstGeom prst="rect">
            <a:avLst/>
          </a:prstGeom>
          <a:ln w="0">
            <a:noFill/>
          </a:ln>
        </p:spPr>
      </p:sp>
      <p:sp>
        <p:nvSpPr>
          <p:cNvPr id="277" name=""/>
          <p:cNvSpPr/>
          <p:nvPr/>
        </p:nvSpPr>
        <p:spPr>
          <a:xfrm>
            <a:off x="1262880" y="4979880"/>
            <a:ext cx="104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From ref. [10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body"/>
          </p:nvPr>
        </p:nvSpPr>
        <p:spPr>
          <a:xfrm>
            <a:off x="904680" y="4719600"/>
            <a:ext cx="4971960" cy="4478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ldImg"/>
          </p:nvPr>
        </p:nvSpPr>
        <p:spPr>
          <a:xfrm>
            <a:off x="1082520" y="863640"/>
            <a:ext cx="4616640" cy="3462120"/>
          </a:xfrm>
          <a:prstGeom prst="rect">
            <a:avLst/>
          </a:prstGeom>
          <a:ln w="0">
            <a:noFill/>
          </a:ln>
        </p:spPr>
      </p:sp>
      <p:sp>
        <p:nvSpPr>
          <p:cNvPr id="280" name=""/>
          <p:cNvSpPr/>
          <p:nvPr/>
        </p:nvSpPr>
        <p:spPr>
          <a:xfrm>
            <a:off x="1262880" y="4979880"/>
            <a:ext cx="104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From ref. [10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body"/>
          </p:nvPr>
        </p:nvSpPr>
        <p:spPr>
          <a:xfrm>
            <a:off x="904680" y="4719600"/>
            <a:ext cx="4971960" cy="4478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ldImg"/>
          </p:nvPr>
        </p:nvSpPr>
        <p:spPr>
          <a:xfrm>
            <a:off x="1082520" y="863640"/>
            <a:ext cx="4616640" cy="3462120"/>
          </a:xfrm>
          <a:prstGeom prst="rect">
            <a:avLst/>
          </a:prstGeom>
          <a:ln w="0">
            <a:noFill/>
          </a:ln>
        </p:spPr>
      </p:sp>
      <p:sp>
        <p:nvSpPr>
          <p:cNvPr id="283" name=""/>
          <p:cNvSpPr/>
          <p:nvPr/>
        </p:nvSpPr>
        <p:spPr>
          <a:xfrm>
            <a:off x="1262880" y="4979880"/>
            <a:ext cx="104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From ref. [10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8A237-6C91-432E-A9A1-8545C3EFC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1650B-D81B-4965-938E-F4D2E03C0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197D9-8FC2-4AA3-8A75-C64FC92E5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8ABCE-F9BE-480C-A83E-9F4A4AA62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2917A-8E26-4457-815B-D526528CE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F5004-91BC-4C08-8EC5-04A326C65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5AF3F-8756-4B30-991A-96E0B42A5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63995-ADAD-4681-817C-D1E386424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DBD85-8F44-4507-85B5-79D345ED5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D8576-EDE1-40BA-BC54-557D311A2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E6673-9DE9-4324-9853-8EF5CC013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31E4F-7FC0-4AAE-BCD4-51AD33ADC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2804A2B8-55F1-4304-82F6-696BFC787BFA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2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2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wmf"/><Relationship Id="rId9" Type="http://schemas.openxmlformats.org/officeDocument/2006/relationships/slideLayout" Target="../slideLayouts/slideLayout2.xml"/><Relationship Id="rId10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2.xml"/><Relationship Id="rId1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wmf"/><Relationship Id="rId7" Type="http://schemas.openxmlformats.org/officeDocument/2006/relationships/slideLayout" Target="../slideLayouts/slideLayout2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.wmf"/><Relationship Id="rId7" Type="http://schemas.openxmlformats.org/officeDocument/2006/relationships/slideLayout" Target="../slideLayouts/slideLayout2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2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26880" y="384120"/>
            <a:ext cx="8472600" cy="5913360"/>
          </a:xfrm>
          <a:prstGeom prst="rect">
            <a:avLst/>
          </a:prstGeom>
          <a:noFill/>
          <a:ln w="47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04920" y="640080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143000" y="1447920"/>
            <a:ext cx="70866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352760" y="609480"/>
            <a:ext cx="184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50720" y="488880"/>
            <a:ext cx="8224920" cy="800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95600" y="490680"/>
            <a:ext cx="1440" cy="795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305840" y="490680"/>
            <a:ext cx="1440" cy="795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6400800"/>
            <a:ext cx="51814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Protection concepts and protection solutions in EM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533520" y="609480"/>
          <a:ext cx="1106280" cy="52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609480"/>
                    <a:ext cx="1106280" cy="52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1752480" y="609480"/>
            <a:ext cx="5410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1413000"/>
            <a:ext cx="525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1371600"/>
            <a:ext cx="8077320" cy="22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SHIELDED CABL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7467480" y="569880"/>
          <a:ext cx="1143000" cy="5508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467480" y="569880"/>
                    <a:ext cx="1143000" cy="55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1905120" y="685800"/>
            <a:ext cx="517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57200" y="2133720"/>
            <a:ext cx="4343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09480" y="350532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533520" y="5338800"/>
            <a:ext cx="807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828800" y="609480"/>
            <a:ext cx="474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326880" y="384120"/>
            <a:ext cx="8472600" cy="5913360"/>
          </a:xfrm>
          <a:prstGeom prst="rect">
            <a:avLst/>
          </a:prstGeom>
          <a:noFill/>
          <a:ln w="47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04920" y="640080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3000" y="1447920"/>
            <a:ext cx="70866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352760" y="609480"/>
            <a:ext cx="184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50720" y="488880"/>
            <a:ext cx="8224920" cy="800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695600" y="490680"/>
            <a:ext cx="1440" cy="795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305840" y="490680"/>
            <a:ext cx="1440" cy="795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657600" y="6400800"/>
            <a:ext cx="51814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Protection concepts and protection solutions in EM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533520" y="609480"/>
          <a:ext cx="1106280" cy="52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609480"/>
                    <a:ext cx="1106280" cy="52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1752480" y="609480"/>
            <a:ext cx="5410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1413000"/>
            <a:ext cx="525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57200" y="1371600"/>
            <a:ext cx="80773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AU" sz="2400" spc="-1" strike="noStrike">
                <a:solidFill>
                  <a:srgbClr val="0000ff"/>
                </a:solidFill>
                <a:latin typeface="Times New Roman"/>
              </a:rPr>
              <a:t>Use of shielded cables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AU" sz="2400" spc="-1" strike="noStrike">
                <a:solidFill>
                  <a:srgbClr val="0000ff"/>
                </a:solidFill>
                <a:latin typeface="Times New Roman"/>
              </a:rPr>
              <a:t>- to transmit information between equipment contained within two protective enclosu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Two distinct transmission lines can be defin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AU" sz="2400" spc="-1" strike="noStrike">
                <a:solidFill>
                  <a:srgbClr val="fc0128"/>
                </a:solidFill>
                <a:latin typeface="Times New Roman"/>
              </a:rPr>
              <a:t>-  an </a:t>
            </a:r>
            <a:r>
              <a:rPr b="0" i="1" lang="en-AU" sz="2400" spc="-1" strike="noStrike">
                <a:solidFill>
                  <a:srgbClr val="fc0128"/>
                </a:solidFill>
                <a:latin typeface="Times New Roman"/>
              </a:rPr>
              <a:t>external</a:t>
            </a:r>
            <a:r>
              <a:rPr b="0" lang="en-AU" sz="2400" spc="-1" strike="noStrike">
                <a:solidFill>
                  <a:srgbClr val="fc0128"/>
                </a:solidFill>
                <a:latin typeface="Times New Roman"/>
              </a:rPr>
              <a:t> line having currents and charges flowing on the exterior of the cable and a ground-plane retu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AU" sz="2400" spc="-1" strike="noStrike">
                <a:solidFill>
                  <a:srgbClr val="006600"/>
                </a:solidFill>
                <a:latin typeface="Times New Roman"/>
              </a:rPr>
              <a:t>- an </a:t>
            </a:r>
            <a:r>
              <a:rPr b="0" i="1" lang="en-AU" sz="2400" spc="-1" strike="noStrike">
                <a:solidFill>
                  <a:srgbClr val="006600"/>
                </a:solidFill>
                <a:latin typeface="Times New Roman"/>
              </a:rPr>
              <a:t>internal</a:t>
            </a:r>
            <a:r>
              <a:rPr b="0" lang="en-AU" sz="2400" spc="-1" strike="noStrike">
                <a:solidFill>
                  <a:srgbClr val="006600"/>
                </a:solidFill>
                <a:latin typeface="Times New Roman"/>
              </a:rPr>
              <a:t> line consisting of the conductors inside the shiel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7467480" y="569880"/>
          <a:ext cx="1143000" cy="5508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467480" y="569880"/>
                    <a:ext cx="1143000" cy="55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3" name=""/>
          <p:cNvSpPr/>
          <p:nvPr/>
        </p:nvSpPr>
        <p:spPr>
          <a:xfrm>
            <a:off x="1905120" y="685800"/>
            <a:ext cx="517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57200" y="2133720"/>
            <a:ext cx="4343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09480" y="350532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533520" y="5338800"/>
            <a:ext cx="807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828800" y="609480"/>
            <a:ext cx="474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HIELDED C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6880" y="384120"/>
            <a:ext cx="8472600" cy="5913360"/>
          </a:xfrm>
          <a:prstGeom prst="rect">
            <a:avLst/>
          </a:prstGeom>
          <a:noFill/>
          <a:ln w="47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4920" y="640080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43000" y="1447920"/>
            <a:ext cx="70866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52760" y="609480"/>
            <a:ext cx="184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50720" y="488880"/>
            <a:ext cx="8224920" cy="800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695600" y="490680"/>
            <a:ext cx="1440" cy="795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305840" y="490680"/>
            <a:ext cx="1440" cy="795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657600" y="6400800"/>
            <a:ext cx="51814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Protection concepts and protection solutions in EM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533520" y="609480"/>
          <a:ext cx="1106280" cy="52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609480"/>
                    <a:ext cx="1106280" cy="52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752480" y="609480"/>
            <a:ext cx="5410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600200" y="1413000"/>
            <a:ext cx="525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57200" y="1371600"/>
            <a:ext cx="8077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AU" sz="2400" spc="-1" strike="noStrike">
                <a:solidFill>
                  <a:srgbClr val="0000ff"/>
                </a:solidFill>
                <a:latin typeface="Times New Roman"/>
              </a:rPr>
              <a:t>Use of shielded cables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7467480" y="569880"/>
          <a:ext cx="1143000" cy="5508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467480" y="569880"/>
                    <a:ext cx="1143000" cy="55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" name=""/>
          <p:cNvSpPr/>
          <p:nvPr/>
        </p:nvSpPr>
        <p:spPr>
          <a:xfrm>
            <a:off x="1905120" y="685800"/>
            <a:ext cx="517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57200" y="2133720"/>
            <a:ext cx="4343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09480" y="350532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533520" y="5338800"/>
            <a:ext cx="807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828800" y="609480"/>
            <a:ext cx="474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HIELDED C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609480" y="2262240"/>
          <a:ext cx="7925040" cy="374004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09480" y="2262240"/>
                    <a:ext cx="7925040" cy="374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26880" y="384120"/>
            <a:ext cx="8472600" cy="5913360"/>
          </a:xfrm>
          <a:prstGeom prst="rect">
            <a:avLst/>
          </a:prstGeom>
          <a:noFill/>
          <a:ln w="47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4920" y="640080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143000" y="1447920"/>
            <a:ext cx="70866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352760" y="609480"/>
            <a:ext cx="184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50720" y="488880"/>
            <a:ext cx="8224920" cy="800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95600" y="490680"/>
            <a:ext cx="1440" cy="795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305840" y="490680"/>
            <a:ext cx="1440" cy="795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657600" y="6400800"/>
            <a:ext cx="51814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Protection concepts and protection solutions in EM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533520" y="609480"/>
          <a:ext cx="1106280" cy="52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609480"/>
                    <a:ext cx="1106280" cy="52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0" name=""/>
          <p:cNvSpPr/>
          <p:nvPr/>
        </p:nvSpPr>
        <p:spPr>
          <a:xfrm>
            <a:off x="1752480" y="609480"/>
            <a:ext cx="5410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600200" y="1413000"/>
            <a:ext cx="525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7200" y="13716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AU" sz="2400" spc="-1" strike="noStrike">
                <a:solidFill>
                  <a:srgbClr val="990033"/>
                </a:solidFill>
                <a:latin typeface="Times New Roman"/>
              </a:rPr>
              <a:t>Coupling process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7467480" y="569880"/>
          <a:ext cx="1143000" cy="5508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467480" y="569880"/>
                    <a:ext cx="1143000" cy="55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"/>
          <p:cNvSpPr/>
          <p:nvPr/>
        </p:nvSpPr>
        <p:spPr>
          <a:xfrm>
            <a:off x="1905120" y="685800"/>
            <a:ext cx="517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57200" y="2133720"/>
            <a:ext cx="4343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09480" y="350532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533520" y="5338800"/>
            <a:ext cx="807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828800" y="609480"/>
            <a:ext cx="474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HIELDED C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69960" y="1981080"/>
            <a:ext cx="37497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1. Diffusion of the </a:t>
            </a:r>
            <a:r>
              <a:rPr b="0" lang="en-AU" sz="2400" spc="-1" strike="noStrike">
                <a:solidFill>
                  <a:srgbClr val="0000ff"/>
                </a:solidFill>
                <a:latin typeface="Times New Roman"/>
              </a:rPr>
              <a:t>E and H-fields through the sheath materi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AU" sz="2400" spc="-1" strike="noStrike">
                <a:solidFill>
                  <a:srgbClr val="fc0128"/>
                </a:solidFill>
                <a:latin typeface="Times New Roman"/>
              </a:rPr>
              <a:t>2. Penetration of the fields through the small appertures of the braided shiel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AU" sz="2400" spc="-1" strike="noStrike">
                <a:solidFill>
                  <a:srgbClr val="990033"/>
                </a:solidFill>
                <a:latin typeface="Times New Roman"/>
              </a:rPr>
              <a:t>3. Purpoising : an induction phenomena due to the overlapping of the individual strands (or carriers) of the shiel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4343400" y="2362320"/>
          <a:ext cx="4332240" cy="341460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343400" y="2362320"/>
                    <a:ext cx="4332240" cy="34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326880" y="384120"/>
            <a:ext cx="8472600" cy="5913360"/>
          </a:xfrm>
          <a:prstGeom prst="rect">
            <a:avLst/>
          </a:prstGeom>
          <a:noFill/>
          <a:ln w="47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04920" y="640080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143000" y="1447920"/>
            <a:ext cx="70866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352760" y="609480"/>
            <a:ext cx="184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0720" y="488880"/>
            <a:ext cx="8224920" cy="800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695600" y="490680"/>
            <a:ext cx="1440" cy="795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305840" y="490680"/>
            <a:ext cx="1440" cy="795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657600" y="6400800"/>
            <a:ext cx="51814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Protection concepts and protection solutions in EM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533520" y="609480"/>
          <a:ext cx="1106280" cy="52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609480"/>
                    <a:ext cx="1106280" cy="52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3" name=""/>
          <p:cNvSpPr/>
          <p:nvPr/>
        </p:nvSpPr>
        <p:spPr>
          <a:xfrm>
            <a:off x="1752480" y="609480"/>
            <a:ext cx="5410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600200" y="1413000"/>
            <a:ext cx="525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57200" y="13716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AU" sz="2400" spc="-1" strike="noStrike">
                <a:solidFill>
                  <a:srgbClr val="fc0128"/>
                </a:solidFill>
                <a:latin typeface="Times New Roman"/>
              </a:rPr>
              <a:t>Physical explanation of the diffusion process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7467480" y="569880"/>
          <a:ext cx="1143000" cy="5508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467480" y="569880"/>
                    <a:ext cx="1143000" cy="55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8" name=""/>
          <p:cNvSpPr/>
          <p:nvPr/>
        </p:nvSpPr>
        <p:spPr>
          <a:xfrm>
            <a:off x="1905120" y="685800"/>
            <a:ext cx="517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57200" y="2133720"/>
            <a:ext cx="4343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09480" y="350532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533520" y="5338800"/>
            <a:ext cx="807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828800" y="609480"/>
            <a:ext cx="474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HIELDED C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69960" y="1981080"/>
            <a:ext cx="3749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3886200" y="2057400"/>
          <a:ext cx="4713120" cy="408780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886200" y="2057400"/>
                    <a:ext cx="4713120" cy="408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6" name=""/>
          <p:cNvGraphicFramePr/>
          <p:nvPr/>
        </p:nvGraphicFramePr>
        <p:xfrm>
          <a:off x="762120" y="2514600"/>
          <a:ext cx="2286000" cy="1006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62120" y="2514600"/>
                    <a:ext cx="2286000" cy="100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326880" y="384120"/>
            <a:ext cx="8472600" cy="5913360"/>
          </a:xfrm>
          <a:prstGeom prst="rect">
            <a:avLst/>
          </a:prstGeom>
          <a:noFill/>
          <a:ln w="47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04920" y="640080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143000" y="1447920"/>
            <a:ext cx="70866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352760" y="609480"/>
            <a:ext cx="184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50720" y="488880"/>
            <a:ext cx="8224920" cy="800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695600" y="490680"/>
            <a:ext cx="1440" cy="795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305840" y="490680"/>
            <a:ext cx="1440" cy="795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657600" y="6400800"/>
            <a:ext cx="51814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Protection concepts and protection solutions in EM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533520" y="609480"/>
          <a:ext cx="1106280" cy="52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609480"/>
                    <a:ext cx="1106280" cy="52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8" name=""/>
          <p:cNvSpPr/>
          <p:nvPr/>
        </p:nvSpPr>
        <p:spPr>
          <a:xfrm>
            <a:off x="1752480" y="609480"/>
            <a:ext cx="5410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600200" y="1413000"/>
            <a:ext cx="525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57200" y="13716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AU" sz="2400" spc="-1" strike="noStrike">
                <a:solidFill>
                  <a:srgbClr val="fc0128"/>
                </a:solidFill>
                <a:latin typeface="Times New Roman"/>
              </a:rPr>
              <a:t>Transfer impedance definition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7467480" y="569880"/>
          <a:ext cx="1143000" cy="5508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467480" y="569880"/>
                    <a:ext cx="1143000" cy="55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3" name=""/>
          <p:cNvSpPr/>
          <p:nvPr/>
        </p:nvSpPr>
        <p:spPr>
          <a:xfrm>
            <a:off x="1905120" y="685800"/>
            <a:ext cx="517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57200" y="2133720"/>
            <a:ext cx="4343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09480" y="350532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533520" y="5338800"/>
            <a:ext cx="807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828800" y="609480"/>
            <a:ext cx="474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HIELDED C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69960" y="1981080"/>
            <a:ext cx="3749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3581280" y="2203560"/>
          <a:ext cx="5029200" cy="365112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581280" y="2203560"/>
                    <a:ext cx="5029200" cy="365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1" name=""/>
          <p:cNvGraphicFramePr/>
          <p:nvPr/>
        </p:nvGraphicFramePr>
        <p:xfrm>
          <a:off x="685800" y="2286000"/>
          <a:ext cx="2590920" cy="11271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85800" y="2286000"/>
                    <a:ext cx="2590920" cy="112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326880" y="384120"/>
            <a:ext cx="8472600" cy="5913360"/>
          </a:xfrm>
          <a:prstGeom prst="rect">
            <a:avLst/>
          </a:prstGeom>
          <a:noFill/>
          <a:ln w="47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04920" y="640080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143000" y="1447920"/>
            <a:ext cx="70866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352760" y="609480"/>
            <a:ext cx="184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50720" y="488880"/>
            <a:ext cx="8224920" cy="800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695600" y="490680"/>
            <a:ext cx="1440" cy="795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305840" y="490680"/>
            <a:ext cx="1440" cy="795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657600" y="6400800"/>
            <a:ext cx="51814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Protection concepts and protection solutions in EM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533520" y="609480"/>
          <a:ext cx="1106280" cy="52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609480"/>
                    <a:ext cx="1106280" cy="52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3" name=""/>
          <p:cNvSpPr/>
          <p:nvPr/>
        </p:nvSpPr>
        <p:spPr>
          <a:xfrm>
            <a:off x="1752480" y="609480"/>
            <a:ext cx="5410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600200" y="1413000"/>
            <a:ext cx="525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7200" y="137160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AU" sz="2400" spc="-1" strike="noStrike">
                <a:solidFill>
                  <a:srgbClr val="fc0128"/>
                </a:solidFill>
                <a:latin typeface="Times New Roman"/>
              </a:rPr>
              <a:t>NUMERICAL EXAMPLE OF SHIELDED CABLE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7467480" y="569880"/>
          <a:ext cx="1143000" cy="5508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9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467480" y="569880"/>
                    <a:ext cx="1143000" cy="55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8" name=""/>
          <p:cNvSpPr/>
          <p:nvPr/>
        </p:nvSpPr>
        <p:spPr>
          <a:xfrm>
            <a:off x="1905120" y="685800"/>
            <a:ext cx="517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57200" y="2133720"/>
            <a:ext cx="4343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09480" y="350532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3520" y="5338800"/>
            <a:ext cx="807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828800" y="609480"/>
            <a:ext cx="474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HIELDED C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69960" y="1981080"/>
            <a:ext cx="3749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3276720" y="2209680"/>
          <a:ext cx="5344920" cy="3354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276720" y="2209680"/>
                    <a:ext cx="5344920" cy="335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6" name=""/>
          <p:cNvSpPr/>
          <p:nvPr/>
        </p:nvSpPr>
        <p:spPr>
          <a:xfrm>
            <a:off x="457200" y="2514600"/>
            <a:ext cx="2971800" cy="275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A shielded </a:t>
            </a:r>
            <a:r>
              <a:rPr b="0" lang="en-AU" sz="2400" spc="-1" strike="noStrike">
                <a:solidFill>
                  <a:srgbClr val="0000ff"/>
                </a:solidFill>
                <a:latin typeface="Times New Roman"/>
              </a:rPr>
              <a:t>cable RG-58 illuminated by an EMP plane wave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AU" sz="2400" spc="-1" strike="noStrike">
                <a:solidFill>
                  <a:srgbClr val="0000ff"/>
                </a:solidFill>
                <a:latin typeface="Times New Roman"/>
              </a:rPr>
              <a:t>E(t) = E</a:t>
            </a:r>
            <a:r>
              <a:rPr b="0" lang="en-AU" sz="2400" spc="-1" strike="noStrike" baseline="-25000">
                <a:solidFill>
                  <a:srgbClr val="0000ff"/>
                </a:solidFill>
                <a:latin typeface="Times New Roman"/>
              </a:rPr>
              <a:t>0</a:t>
            </a:r>
            <a:r>
              <a:rPr b="0" lang="en-AU" sz="2400" spc="-1" strike="noStrike">
                <a:solidFill>
                  <a:srgbClr val="0000ff"/>
                </a:solidFill>
                <a:latin typeface="Times New Roman"/>
              </a:rPr>
              <a:t>(e</a:t>
            </a:r>
            <a:r>
              <a:rPr b="0" lang="en-AU" sz="2400" spc="-1" strike="noStrike" baseline="30000">
                <a:solidFill>
                  <a:srgbClr val="0000ff"/>
                </a:solidFill>
                <a:latin typeface="Times New Roman"/>
              </a:rPr>
              <a:t>-</a:t>
            </a:r>
            <a:r>
              <a:rPr b="0" lang="en-AU" sz="2400" spc="-1" strike="noStrike" baseline="30000">
                <a:solidFill>
                  <a:srgbClr val="0000ff"/>
                </a:solidFill>
                <a:latin typeface="Symbol"/>
                <a:ea typeface="Symbol"/>
              </a:rPr>
              <a:t></a:t>
            </a:r>
            <a:r>
              <a:rPr b="0" lang="en-AU" sz="2400" spc="-1" strike="noStrike">
                <a:solidFill>
                  <a:srgbClr val="0000ff"/>
                </a:solidFill>
                <a:latin typeface="Times New Roman"/>
              </a:rPr>
              <a:t>1</a:t>
            </a:r>
            <a:r>
              <a:rPr b="0" lang="en-AU" sz="2400" spc="-1" strike="noStrike" baseline="30000">
                <a:solidFill>
                  <a:srgbClr val="0000ff"/>
                </a:solidFill>
                <a:latin typeface="Times New Roman"/>
              </a:rPr>
              <a:t>t</a:t>
            </a:r>
            <a:r>
              <a:rPr b="0" lang="en-AU" sz="2400" spc="-1" strike="noStrike">
                <a:solidFill>
                  <a:srgbClr val="0000ff"/>
                </a:solidFill>
                <a:latin typeface="Times New Roman"/>
              </a:rPr>
              <a:t> - e</a:t>
            </a:r>
            <a:r>
              <a:rPr b="0" lang="en-AU" sz="2400" spc="-1" strike="noStrike" baseline="30000">
                <a:solidFill>
                  <a:srgbClr val="0000ff"/>
                </a:solidFill>
                <a:latin typeface="Times New Roman"/>
              </a:rPr>
              <a:t>-</a:t>
            </a:r>
            <a:r>
              <a:rPr b="0" lang="en-AU" sz="2400" spc="-1" strike="noStrike" baseline="30000">
                <a:solidFill>
                  <a:srgbClr val="0000ff"/>
                </a:solidFill>
                <a:latin typeface="Symbol"/>
                <a:ea typeface="Symbol"/>
              </a:rPr>
              <a:t></a:t>
            </a:r>
            <a:r>
              <a:rPr b="0" lang="en-AU" sz="2400" spc="-1" strike="noStrike">
                <a:solidFill>
                  <a:srgbClr val="0000ff"/>
                </a:solidFill>
                <a:latin typeface="Times New Roman"/>
              </a:rPr>
              <a:t>2</a:t>
            </a:r>
            <a:r>
              <a:rPr b="0" lang="en-AU" sz="2400" spc="-1" strike="noStrike" baseline="30000">
                <a:solidFill>
                  <a:srgbClr val="0000ff"/>
                </a:solidFill>
                <a:latin typeface="Times New Roman"/>
              </a:rPr>
              <a:t>t</a:t>
            </a:r>
            <a:r>
              <a:rPr b="0" lang="en-AU" sz="2400" spc="-1" strike="noStrike">
                <a:solidFill>
                  <a:srgbClr val="0000ff"/>
                </a:solidFill>
                <a:latin typeface="Times New Roman"/>
              </a:rPr>
              <a:t>), with E</a:t>
            </a:r>
            <a:r>
              <a:rPr b="0" lang="en-AU" sz="2400" spc="-1" strike="noStrike" baseline="-25000">
                <a:solidFill>
                  <a:srgbClr val="0000ff"/>
                </a:solidFill>
                <a:latin typeface="Times New Roman"/>
              </a:rPr>
              <a:t>0</a:t>
            </a:r>
            <a:r>
              <a:rPr b="0" lang="en-AU" sz="2400" spc="-1" strike="noStrike">
                <a:solidFill>
                  <a:srgbClr val="0000ff"/>
                </a:solidFill>
                <a:latin typeface="Times New Roman"/>
              </a:rPr>
              <a:t> = 50 kV/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038480" y="568008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Times New Roman"/>
              </a:rPr>
              <a:t>Induced shield curr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326880" y="384120"/>
            <a:ext cx="8472600" cy="5913360"/>
          </a:xfrm>
          <a:prstGeom prst="rect">
            <a:avLst/>
          </a:prstGeom>
          <a:noFill/>
          <a:ln w="47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04920" y="640080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143000" y="1447920"/>
            <a:ext cx="70866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352760" y="609480"/>
            <a:ext cx="184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50720" y="488880"/>
            <a:ext cx="8224920" cy="800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695600" y="490680"/>
            <a:ext cx="1440" cy="795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05840" y="490680"/>
            <a:ext cx="1440" cy="795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657600" y="6400800"/>
            <a:ext cx="51814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Protection concepts and protection solutions in EM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533520" y="609480"/>
          <a:ext cx="1106280" cy="52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609480"/>
                    <a:ext cx="1106280" cy="52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8" name=""/>
          <p:cNvSpPr/>
          <p:nvPr/>
        </p:nvSpPr>
        <p:spPr>
          <a:xfrm>
            <a:off x="1752480" y="609480"/>
            <a:ext cx="5410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600200" y="1413000"/>
            <a:ext cx="525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7200" y="137160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AU" sz="2400" spc="-1" strike="noStrike">
                <a:solidFill>
                  <a:srgbClr val="fc0128"/>
                </a:solidFill>
                <a:latin typeface="Times New Roman"/>
              </a:rPr>
              <a:t>NUMERICAL EXAMPLE OF SHIELDED CABLE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7467480" y="569880"/>
          <a:ext cx="1143000" cy="5508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22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467480" y="569880"/>
                    <a:ext cx="1143000" cy="55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3" name=""/>
          <p:cNvSpPr/>
          <p:nvPr/>
        </p:nvSpPr>
        <p:spPr>
          <a:xfrm>
            <a:off x="1905120" y="685800"/>
            <a:ext cx="517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7200" y="2133720"/>
            <a:ext cx="4343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9480" y="350532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flipV="1">
            <a:off x="533520" y="5338800"/>
            <a:ext cx="807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828800" y="609480"/>
            <a:ext cx="474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HIELDED C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69960" y="1981080"/>
            <a:ext cx="3749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57200" y="2286000"/>
            <a:ext cx="2971800" cy="380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AU" sz="2400" spc="-1" strike="noStrike">
                <a:solidFill>
                  <a:srgbClr val="fc0128"/>
                </a:solidFill>
                <a:latin typeface="Times New Roman"/>
              </a:rPr>
              <a:t>Internal voltage response at the load imped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AU" sz="2400" spc="-1" strike="noStrike">
                <a:solidFill>
                  <a:srgbClr val="0000ff"/>
                </a:solidFill>
                <a:latin typeface="Times New Roman"/>
              </a:rPr>
              <a:t>Internal current in a 50 </a:t>
            </a:r>
            <a:r>
              <a:rPr b="0" lang="en-AU" sz="2400" spc="-1" strike="noStrike">
                <a:solidFill>
                  <a:srgbClr val="0000ff"/>
                </a:solidFill>
                <a:latin typeface="Symbol"/>
                <a:ea typeface="Symbol"/>
              </a:rPr>
              <a:t></a:t>
            </a:r>
            <a:r>
              <a:rPr b="0" lang="en-AU" sz="2400" spc="-1" strike="noStrike">
                <a:solidFill>
                  <a:srgbClr val="0000ff"/>
                </a:solidFill>
                <a:latin typeface="Times New Roman"/>
              </a:rPr>
              <a:t> load 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AU" sz="2400" spc="-1" strike="noStrike">
                <a:solidFill>
                  <a:srgbClr val="0000ff"/>
                </a:solidFill>
                <a:latin typeface="Times New Roman"/>
              </a:rPr>
              <a:t>I</a:t>
            </a:r>
            <a:r>
              <a:rPr b="0" lang="en-AU" sz="2400" spc="-1" strike="noStrike" baseline="-25000">
                <a:solidFill>
                  <a:srgbClr val="0000ff"/>
                </a:solidFill>
                <a:latin typeface="Times New Roman"/>
              </a:rPr>
              <a:t>2</a:t>
            </a:r>
            <a:r>
              <a:rPr b="0" lang="en-AU" sz="2400" spc="-1" strike="noStrike" baseline="30000">
                <a:solidFill>
                  <a:srgbClr val="0000ff"/>
                </a:solidFill>
                <a:latin typeface="Times New Roman"/>
              </a:rPr>
              <a:t>(i)</a:t>
            </a:r>
            <a:r>
              <a:rPr b="0" lang="en-AU" sz="2400" spc="-1" strike="noStrike">
                <a:solidFill>
                  <a:srgbClr val="0000ff"/>
                </a:solidFill>
                <a:latin typeface="Times New Roman"/>
              </a:rPr>
              <a:t> = 200/50 = 4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AU" sz="2400" spc="-1" strike="noStrike">
                <a:solidFill>
                  <a:srgbClr val="fc0128"/>
                </a:solidFill>
                <a:latin typeface="Times New Roman"/>
              </a:rPr>
              <a:t>Shielding effectiveness for the peak current : SE = 20 log(500/4)= 42 d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0" name=""/>
          <p:cNvGraphicFramePr/>
          <p:nvPr/>
        </p:nvGraphicFramePr>
        <p:xfrm>
          <a:off x="3276720" y="2209680"/>
          <a:ext cx="5016240" cy="2686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3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276720" y="2209680"/>
                    <a:ext cx="5016240" cy="268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2" name=""/>
          <p:cNvSpPr/>
          <p:nvPr/>
        </p:nvSpPr>
        <p:spPr>
          <a:xfrm>
            <a:off x="3870360" y="4952880"/>
            <a:ext cx="4740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AU" sz="2400" spc="-1" strike="noStrike">
                <a:solidFill>
                  <a:srgbClr val="000000"/>
                </a:solidFill>
                <a:latin typeface="Times New Roman"/>
              </a:rPr>
              <a:t>shielding effectiveness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1" lang="en-AU" sz="2400" spc="-1" strike="noStrike">
                <a:solidFill>
                  <a:srgbClr val="000000"/>
                </a:solidFill>
                <a:latin typeface="Times New Roman"/>
              </a:rPr>
              <a:t>not a significative parameter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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 depends on the </a:t>
            </a:r>
            <a:r>
              <a:rPr b="1" lang="en-AU" sz="2400" spc="-1" strike="noStrike">
                <a:solidFill>
                  <a:srgbClr val="000000"/>
                </a:solidFill>
                <a:latin typeface="Times New Roman"/>
              </a:rPr>
              <a:t>load value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326880" y="384120"/>
            <a:ext cx="8472600" cy="5913360"/>
          </a:xfrm>
          <a:prstGeom prst="rect">
            <a:avLst/>
          </a:prstGeom>
          <a:noFill/>
          <a:ln w="47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04920" y="640080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143000" y="1447920"/>
            <a:ext cx="70866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352760" y="609480"/>
            <a:ext cx="184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50720" y="488880"/>
            <a:ext cx="8224920" cy="800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695600" y="490680"/>
            <a:ext cx="1440" cy="795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305840" y="490680"/>
            <a:ext cx="1440" cy="795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657600" y="6400800"/>
            <a:ext cx="51814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Protection concepts and protection solutions in EM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1" name=""/>
          <p:cNvGraphicFramePr/>
          <p:nvPr/>
        </p:nvGraphicFramePr>
        <p:xfrm>
          <a:off x="533520" y="609480"/>
          <a:ext cx="1106280" cy="52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609480"/>
                    <a:ext cx="1106280" cy="52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3" name=""/>
          <p:cNvSpPr/>
          <p:nvPr/>
        </p:nvSpPr>
        <p:spPr>
          <a:xfrm>
            <a:off x="1752480" y="609480"/>
            <a:ext cx="5410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600200" y="1413000"/>
            <a:ext cx="525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57200" y="137160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AU" sz="2400" spc="-1" strike="noStrike">
                <a:solidFill>
                  <a:srgbClr val="fc0128"/>
                </a:solidFill>
                <a:latin typeface="Times New Roman"/>
              </a:rPr>
              <a:t>CABLES WITH SHIELD INTERRUPTION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AU" sz="2400" spc="-1" strike="noStrike">
                <a:solidFill>
                  <a:srgbClr val="fc0128"/>
                </a:solidFill>
                <a:latin typeface="Times New Roman"/>
              </a:rPr>
              <a:t>TYPES OF DISCONTINU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6" name=""/>
          <p:cNvGraphicFramePr/>
          <p:nvPr/>
        </p:nvGraphicFramePr>
        <p:xfrm>
          <a:off x="7467480" y="569880"/>
          <a:ext cx="1143000" cy="5508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24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467480" y="569880"/>
                    <a:ext cx="1143000" cy="55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8" name=""/>
          <p:cNvSpPr/>
          <p:nvPr/>
        </p:nvSpPr>
        <p:spPr>
          <a:xfrm>
            <a:off x="1905120" y="685800"/>
            <a:ext cx="517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57200" y="2133720"/>
            <a:ext cx="4343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09480" y="350532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V="1">
            <a:off x="533520" y="5338800"/>
            <a:ext cx="807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828800" y="609480"/>
            <a:ext cx="474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HIELDED C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9960" y="1981080"/>
            <a:ext cx="3749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870360" y="4952880"/>
            <a:ext cx="4740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2209680" y="2209680"/>
          <a:ext cx="5029200" cy="381816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25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09680" y="2209680"/>
                    <a:ext cx="5029200" cy="381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10-29T15:56:46Z</dcterms:created>
  <dc:creator>Narcís</dc:creator>
  <dc:description/>
  <dc:language>en-US</dc:language>
  <cp:lastModifiedBy>Michel Ianoz</cp:lastModifiedBy>
  <cp:lastPrinted>2000-11-05T16:29:07Z</cp:lastPrinted>
  <dcterms:modified xsi:type="dcterms:W3CDTF">2003-09-04T15:43:42Z</dcterms:modified>
  <cp:revision>386</cp:revision>
  <dc:subject/>
  <dc:title>Presentación para curso de GSM</dc:title>
</cp:coreProperties>
</file>