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3.bin" ContentType="application/vnd.openxmlformats-officedocument.oleObject"/>
  <Override PartName="/ppt/embeddings/oleObject4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936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3360" y="936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43360" y="943128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5F35DA9-E557-4BCD-8C51-D46BA47E4FBD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082520" y="863280"/>
            <a:ext cx="4616640" cy="34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35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62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65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68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71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74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77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80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83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86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89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38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92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41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44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47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50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53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56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459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302C-C85B-4CB3-8101-4F19044F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7F39-27B6-4A95-B3A9-336F7966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7974-BF2A-4E8A-910A-9F1DFD5D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9418-53B7-448B-A9CA-0B82CF4C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6FF7-7D41-49E3-B170-30175C04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8EFC-DCB8-4421-A4F3-F834E65B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48A7-82A3-4C95-8FA4-7C61560C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305C-30A0-4797-BA06-CFB579BB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5831-CD98-4725-9BB6-23A825AC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72E8-ADA6-42F2-AF5B-83477A80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7E9B-3063-4602-8F64-9B6C22C1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8B5F-490F-46F0-8440-E56DEDC3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FC7809-CD5F-4CFE-AA16-B1387DD6206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6520"/>
            <a:ext cx="81532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3600" spc="-1" strike="noStrike">
                <a:solidFill>
                  <a:srgbClr val="fc0128"/>
                </a:solidFill>
                <a:latin typeface="Times New Roman"/>
              </a:rPr>
              <a:t>PROTECTION CONCEPTS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3600" spc="-1" strike="noStrike">
                <a:solidFill>
                  <a:srgbClr val="fc0128"/>
                </a:solidFill>
                <a:latin typeface="Times New Roman"/>
              </a:rPr>
              <a:t>PROTECTION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3600" spc="-1" strike="noStrike">
                <a:solidFill>
                  <a:srgbClr val="fc0128"/>
                </a:solidFill>
                <a:latin typeface="Times New Roman"/>
              </a:rPr>
              <a:t>IN EM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400" spc="-1" strike="noStrike">
                <a:solidFill>
                  <a:srgbClr val="0066ff"/>
                </a:solidFill>
                <a:latin typeface="Times New Roman"/>
              </a:rPr>
              <a:t>Michel Ian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0066ff"/>
                </a:solidFill>
                <a:latin typeface="Times New Roman"/>
              </a:rPr>
              <a:t>Distinguished Lectu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0066ff"/>
                </a:solidFill>
                <a:latin typeface="Times New Roman"/>
              </a:rPr>
              <a:t>IEEE EMC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Times New Roman"/>
              </a:rPr>
              <a:t>E-Mail : michel.ianoz@epfl.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447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ff"/>
                </a:solidFill>
                <a:latin typeface="Times New Roman"/>
              </a:rPr>
              <a:t>Magnetostatic shielding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HIELDING OF STATIC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2133720"/>
            <a:ext cx="434340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Only ferromagnetic materials permit a certain degree of shielding due to a high relative pemeability (</a:t>
            </a:r>
            <a:r>
              <a:rPr b="0" lang="en-AU" sz="24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en-AU" sz="2400" spc="-1" strike="noStrike" baseline="-25000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The ferromagnetic material with a high relative permeability “attracts” the lines of the magnetic field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 the field is smaller inside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410080" y="2209680"/>
          <a:ext cx="3005280" cy="358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2209680"/>
                    <a:ext cx="30052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447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ff"/>
                </a:solidFill>
                <a:latin typeface="Times New Roman"/>
              </a:rPr>
              <a:t>SHIELDING EFFICIENCY AS A FUNCTION OF THE CELL DIMENSIONS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HIELDING OF STATIC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371600" y="2362320"/>
          <a:ext cx="6173640" cy="3684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2362320"/>
                    <a:ext cx="617364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447920"/>
            <a:ext cx="3505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fc0128"/>
                </a:solidFill>
                <a:latin typeface="Times New Roman"/>
              </a:rPr>
              <a:t>EDDY CURRENT SHIE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Use of eddy currents to build up a shield against low frequency (50 Hz) magnetic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1905120" y="533520"/>
            <a:ext cx="51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HIELDING OF TIME VARYING FIE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809880" y="1366920"/>
          <a:ext cx="4878360" cy="4821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1366920"/>
                    <a:ext cx="487836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13716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ff"/>
                </a:solidFill>
                <a:latin typeface="Times New Roman"/>
              </a:rPr>
              <a:t>PLANE WAVE SHIELDING BY AN INFINITE METAL PLAT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1905120" y="533520"/>
            <a:ext cx="51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HIELDING OF TIME VARYING FIE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2362320" y="2133720"/>
          <a:ext cx="4800600" cy="4114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2133720"/>
                    <a:ext cx="4800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13716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800" spc="-1" strike="noStrike">
                <a:solidFill>
                  <a:srgbClr val="0000ff"/>
                </a:solidFill>
                <a:latin typeface="Times New Roman"/>
              </a:rPr>
              <a:t>Shielding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1905120" y="533520"/>
            <a:ext cx="51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HIELDING OF TIME VARYING FIE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371600" y="2133720"/>
                <a:ext cx="213372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609480" y="38512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f the incident and transmitted fields are both a plane w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066680" y="4648320"/>
                <a:ext cx="24386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1371600"/>
            <a:ext cx="80773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The shielding factor </a:t>
            </a:r>
            <a:r>
              <a:rPr b="0" i="1" lang="en-AU" sz="24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0" i="1" lang="en-AU" sz="2400" spc="-1" strike="noStrike" baseline="-25000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 computed using the E-fields will be the same as </a:t>
            </a:r>
            <a:r>
              <a:rPr b="0" i="1" lang="en-AU" sz="24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0" i="1" lang="en-AU" sz="2400" spc="-1" strike="noStrike" baseline="-25000">
                <a:solidFill>
                  <a:srgbClr val="0000ff"/>
                </a:solidFill>
                <a:latin typeface="Times New Roman"/>
              </a:rPr>
              <a:t>H</a:t>
            </a: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 computed for the H-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1905120" y="533520"/>
            <a:ext cx="51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HIELDING OF TIME VARYING FIE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480" y="3505320"/>
            <a:ext cx="792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AU" sz="2400" spc="-1" strike="noStrike" baseline="-25000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can be put into a different form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62120" y="2438280"/>
                <a:ext cx="74674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h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j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t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rad>
                      </m:e>
                    </m:d>
                    <m:r>
                      <m:t xml:space="preserve">+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h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j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t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457200" y="4191120"/>
                <a:ext cx="762012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j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t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rad>
                          </m:sup>
                        </m:sSup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j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t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rad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533520" y="52578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tten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Multiple reflection lo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ropagation lo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1371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fc0128"/>
                </a:solidFill>
                <a:latin typeface="Times New Roman"/>
              </a:rPr>
              <a:t>Parameters which determine the shielding efficiency of a metallic 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ff"/>
                </a:solidFill>
                <a:latin typeface="Times New Roman"/>
              </a:rPr>
              <a:t>The th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1905120" y="533520"/>
            <a:ext cx="51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HIELDING OF TIME VARYING FIE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2666880" y="2562120"/>
          <a:ext cx="5943600" cy="35877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2562120"/>
                    <a:ext cx="5943600" cy="35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457200" y="286056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he th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is not an important parame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1371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ff"/>
                </a:solidFill>
                <a:latin typeface="Times New Roman"/>
              </a:rPr>
              <a:t>PLANE WAVE SHIELDING BY A CONDUCTING 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1905120" y="533520"/>
            <a:ext cx="51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HIELDING OF TIME VARYING FIE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457200" y="2057400"/>
          <a:ext cx="3429000" cy="2484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057400"/>
                    <a:ext cx="342900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3962520" y="1828800"/>
          <a:ext cx="4724280" cy="28764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2520" y="1828800"/>
                    <a:ext cx="472428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457200" y="4648320"/>
            <a:ext cx="80773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AU" sz="24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i="1" lang="en-AU" sz="2400" spc="-1" strike="noStrike" baseline="-25000">
                <a:solidFill>
                  <a:srgbClr val="0000ff"/>
                </a:solidFill>
                <a:latin typeface="Times New Roman"/>
              </a:rPr>
              <a:t>min</a:t>
            </a: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 depends on the mesh dimensio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AU" sz="24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i="1" lang="en-AU" sz="2400" spc="-1" strike="noStrike" baseline="-25000">
                <a:solidFill>
                  <a:srgbClr val="0000ff"/>
                </a:solidFill>
                <a:latin typeface="Times New Roman"/>
              </a:rPr>
              <a:t>max </a:t>
            </a: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 occurs when the shield begins to be completely trans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This frequency is determined purely by the surface inductance of the me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" y="1371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ff"/>
                </a:solidFill>
                <a:latin typeface="Times New Roman"/>
              </a:rPr>
              <a:t>VOLUMETRIC SH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"/>
          <p:cNvSpPr/>
          <p:nvPr/>
        </p:nvSpPr>
        <p:spPr>
          <a:xfrm>
            <a:off x="1905120" y="533520"/>
            <a:ext cx="51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HIELDING OF TIME VARYING FIE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533520" y="2133720"/>
          <a:ext cx="8076960" cy="3092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133720"/>
                    <a:ext cx="807696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" y="1371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ff"/>
                </a:solidFill>
                <a:latin typeface="Times New Roman"/>
              </a:rPr>
              <a:t>Frequency behavior of the H-field shielding efficiency of a closed iron mesh shield for varying mesh siz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nclosure diameter = 6 m, mesh conductor diameter = 16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"/>
          <p:cNvSpPr/>
          <p:nvPr/>
        </p:nvSpPr>
        <p:spPr>
          <a:xfrm>
            <a:off x="1905120" y="533520"/>
            <a:ext cx="51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HIELDING OF TIME VARYING FIE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523880" y="2527200"/>
          <a:ext cx="5943600" cy="36212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2527200"/>
                    <a:ext cx="59436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44792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This lecture will discuss the principles of EM shielding and will illustrate results from some of the simple models that can be used for predictions of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ff"/>
                </a:solidFill>
                <a:latin typeface="Times New Roman"/>
              </a:rPr>
              <a:t>Shielding</a:t>
            </a: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 an effective way of preventing undesirable electromagnetic inter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PROBLEM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" y="1371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fc0128"/>
                </a:solidFill>
                <a:latin typeface="Times New Roman"/>
              </a:rPr>
              <a:t>INDUCED RESPONSES WITHIN A MESH-PROTECTED SH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1905120" y="533520"/>
            <a:ext cx="51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HIELDING OF TIME VARYING FIE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2971800" y="2209680"/>
          <a:ext cx="5638680" cy="390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2209680"/>
                    <a:ext cx="5638680" cy="39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457200" y="25909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 plant with walls in reinforced concret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stance between the rods = 20 c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447920"/>
            <a:ext cx="815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ff"/>
                </a:solidFill>
                <a:latin typeface="Times New Roman"/>
              </a:rPr>
              <a:t>The shield</a:t>
            </a: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 only one element of many that must be considered together to create a complete and effective protection conc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The shield must be considered together with other elements of EMI prot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fc0128"/>
                </a:solidFill>
                <a:latin typeface="Times New Roman"/>
              </a:rPr>
              <a:t>A correct choice of this combination must take into accoun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fc0128"/>
              </a:buClr>
              <a:buFont typeface="Times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fc0128"/>
                </a:solidFill>
                <a:latin typeface="Times New Roman"/>
              </a:rPr>
              <a:t>the surrounding environment and its electromagnetic properti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fc0128"/>
              </a:buClr>
              <a:buFont typeface="Times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fc0128"/>
                </a:solidFill>
                <a:latin typeface="Times New Roman"/>
              </a:rPr>
              <a:t>the user requirements and mission of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PROBLEM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447920"/>
            <a:ext cx="815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LIMITATIONS OF THE EM SHIE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fc0128"/>
                </a:solidFill>
                <a:latin typeface="Times New Roman"/>
              </a:rPr>
              <a:t>The limitations and shortcomings in EM shielding are the openings of the sh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6600"/>
                </a:solidFill>
                <a:latin typeface="Times New Roman"/>
              </a:rPr>
              <a:t>Openings are needed in order to permit communication between the volume protected by the shield and the outer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HIELDING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447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fc0128"/>
                </a:solidFill>
                <a:latin typeface="Times New Roman"/>
              </a:rPr>
              <a:t>LIMITATIONS OF THE EM SHIE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HIELDING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120" y="2057400"/>
          <a:ext cx="7010280" cy="4113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057400"/>
                    <a:ext cx="701028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447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fc0128"/>
                </a:solidFill>
                <a:latin typeface="Times New Roman"/>
              </a:rPr>
              <a:t>LIMITATIONS OF THE EM SHIE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HIELDING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95280" y="2286000"/>
          <a:ext cx="6782040" cy="36133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2286000"/>
                    <a:ext cx="6782040" cy="36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1447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ff"/>
                </a:solidFill>
                <a:latin typeface="Times New Roman"/>
              </a:rPr>
              <a:t>THE GENERALIZED SHIELD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HIELDING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429000" y="2209680"/>
          <a:ext cx="5257800" cy="34322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2209680"/>
                    <a:ext cx="5257800" cy="34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457200" y="1981080"/>
            <a:ext cx="2971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</a:t>
            </a: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shielding should not be seen only as a metallic barrier between a disturbance source and a potential vict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The generalized shield indicates that neither of its sides communicate with each othe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447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ff"/>
                </a:solidFill>
                <a:latin typeface="Times New Roman"/>
              </a:rPr>
              <a:t>THE GENERALIZED SHIELD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HIELDING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1981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nother example of the generalized shield conc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62120" y="2590920"/>
          <a:ext cx="7848360" cy="339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590920"/>
                    <a:ext cx="784836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1447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6600"/>
                </a:solidFill>
                <a:latin typeface="Times New Roman"/>
              </a:rPr>
              <a:t>Electrostatic shielding : The Faraday c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HIELDING OF STATIC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198108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ff3399"/>
                </a:solidFill>
                <a:latin typeface="Times New Roman"/>
              </a:rPr>
              <a:t>The shielding  is extremely effective  for electrostatic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ith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 – hole diameter; r – distance to the ho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800600" y="2514600"/>
          <a:ext cx="3782880" cy="355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2514600"/>
                    <a:ext cx="3782880" cy="35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914400" y="3898800"/>
                <a:ext cx="243828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t xml:space="preserve">»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  <m:r>
                          <m:t xml:space="preserve">p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719160" y="43084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29T15:56:46Z</dcterms:created>
  <dc:creator>Narcís</dc:creator>
  <dc:description/>
  <dc:language>en-US</dc:language>
  <cp:lastModifiedBy>Michel Ianoz</cp:lastModifiedBy>
  <cp:lastPrinted>2000-11-05T16:29:07Z</cp:lastPrinted>
  <dcterms:modified xsi:type="dcterms:W3CDTF">2003-09-04T15:44:50Z</dcterms:modified>
  <cp:revision>379</cp:revision>
  <dc:subject/>
  <dc:title>Presentación para curso de GSM</dc:title>
</cp:coreProperties>
</file>